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214-39D5-40A8-92EA-CB93BAF5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AB1-E106-41FE-8490-B546C1B8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A78-21D3-438B-BE93-0E49B2EC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136-F2F4-41C5-B661-00692982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312-2776-425E-A275-31539BC9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22B-E477-404B-B3F2-23B6DC64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E97-7F93-4E43-B691-F1BBA250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25F-0FDC-4A4B-A5F9-79D4215D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730-5F3C-40FE-AF9D-4367C430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C0F-6949-4130-9F73-1D229EC3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079-8350-46E1-BCAB-93A662C4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55F-8E92-4DF6-A9F9-A6A1F01C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0F67D-1648-486E-9544-A8C77C3EC8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1D955-6A2A-4148-BCCF-A8827D71C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 Ball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932200" y="1417680"/>
            <a:ext cx="3294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5" descr="Flat Basketball.jpg"/>
          <p:cNvPicPr/>
          <p:nvPr/>
        </p:nvPicPr>
        <p:blipFill>
          <a:blip r:embed="rId1"/>
          <a:srcRect l="0" t="-20030" r="0" b="-2003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6" descr="Inflated Basketball.jpg"/>
          <p:cNvPicPr/>
          <p:nvPr/>
        </p:nvPicPr>
        <p:blipFill>
          <a:blip r:embed="rId2"/>
          <a:srcRect l="0" t="-6028" r="0" b="-6028"/>
          <a:stretch/>
        </p:blipFill>
        <p:spPr>
          <a:xfrm>
            <a:off x="5003640" y="1913040"/>
            <a:ext cx="3268800" cy="3662280"/>
          </a:xfrm>
          <a:prstGeom prst="rect">
            <a:avLst/>
          </a:prstGeom>
          <a:ln w="0">
            <a:noFill/>
          </a:ln>
        </p:spPr>
      </p:pic>
      <p:sp>
        <p:nvSpPr>
          <p:cNvPr id="48" name="Right Arrow 7"/>
          <p:cNvSpPr/>
          <p:nvPr/>
        </p:nvSpPr>
        <p:spPr>
          <a:xfrm>
            <a:off x="3960720" y="2992320"/>
            <a:ext cx="822240" cy="822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exert force onto something by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 or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Push.jpg"/>
          <p:cNvPicPr/>
          <p:nvPr/>
        </p:nvPicPr>
        <p:blipFill>
          <a:blip r:embed="rId1"/>
          <a:stretch/>
        </p:blipFill>
        <p:spPr>
          <a:xfrm>
            <a:off x="1204920" y="2305080"/>
            <a:ext cx="2870280" cy="215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Pull.gif"/>
          <p:cNvPicPr/>
          <p:nvPr/>
        </p:nvPicPr>
        <p:blipFill>
          <a:blip r:embed="rId2"/>
          <a:stretch/>
        </p:blipFill>
        <p:spPr>
          <a:xfrm>
            <a:off x="5229360" y="2305080"/>
            <a:ext cx="2867040" cy="1979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377280" y="6337440"/>
            <a:ext cx="82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of the individual particles add together to make up the pressure of th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Pressure Formula.png"/>
          <p:cNvPicPr/>
          <p:nvPr/>
        </p:nvPicPr>
        <p:blipFill>
          <a:blip r:embed="rId1"/>
          <a:srcRect l="0" t="-28023" r="0" b="-28023"/>
          <a:stretch/>
        </p:blipFill>
        <p:spPr>
          <a:xfrm>
            <a:off x="3014640" y="2498760"/>
            <a:ext cx="2805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e is measured i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 is measured i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fore, pressure is measured i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unit of pressure is called 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mospheric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Straw.gif"/>
          <p:cNvPicPr/>
          <p:nvPr/>
        </p:nvPicPr>
        <p:blipFill>
          <a:blip r:embed="rId1"/>
          <a:srcRect l="-63643" t="0" r="-6364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itude is the height above sea level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ltitude _____________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mospheric pressure 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Blaise Pascal.jpg"/>
          <p:cNvPicPr/>
          <p:nvPr/>
        </p:nvPicPr>
        <p:blipFill>
          <a:blip r:embed="rId1"/>
          <a:stretch/>
        </p:blipFill>
        <p:spPr>
          <a:xfrm>
            <a:off x="3519360" y="4110120"/>
            <a:ext cx="272916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08:04:48Z</dcterms:created>
  <dc:creator>Cleophis Carson</dc:creator>
  <dc:description/>
  <dc:language>en-US</dc:language>
  <cp:lastModifiedBy>Cleophis Carson</cp:lastModifiedBy>
  <cp:lastPrinted>2011-09-20T09:25:34Z</cp:lastPrinted>
  <dcterms:modified xsi:type="dcterms:W3CDTF">2011-09-20T09:39:12Z</dcterms:modified>
  <cp:revision>3</cp:revision>
  <dc:subject/>
  <dc:title>Pressure</dc:title>
</cp:coreProperties>
</file>